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315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16200" y="100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15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16200" y="315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1520" y="100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89160" y="100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315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1520" y="315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89160" y="315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6B39-5A9E-48B5-B55F-AD210827CA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520" y="10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9553F-EBDE-4129-99F7-E56FE2B76B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EA9E3-146F-41AA-A6EA-E8F1F2AD81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6200" y="100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5DE5-A746-4404-94A3-9C84EEC872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9E40-26E7-42D0-8034-9C85529ECA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75960"/>
            <a:ext cx="73915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7A49-F759-445C-89A6-705C74B0C4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6200" y="100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520" y="315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7E36-1E7F-4505-B856-6B8979F5EF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0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6200" y="100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6200" y="315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AD54-83F1-4B40-A649-7F293E7897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00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15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2061-4985-45BB-9897-9154C6E883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520" y="315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7843B-5F9E-4AC4-A9FE-155CC459B9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6200" y="100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15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6200" y="315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B0DF-E46A-4793-AE13-EFFC2D0D15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1520" y="100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9160" y="100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520" y="315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1520" y="315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9160" y="315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B527C-CFCC-48F4-90F2-3BBA457CA6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16200" y="100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75960"/>
            <a:ext cx="73915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16200" y="100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315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00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16200" y="315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62640"/>
            <a:ext cx="73915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0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00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15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354720"/>
            <a:ext cx="9144000" cy="53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391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0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749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749"/>
              </a:spcBef>
              <a:buClr>
                <a:srgbClr val="80808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91960" y="595944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8C86-7486-44BD-A555-88755C427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A25D-7F1B-4D72-80FE-DCF22D2232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354720"/>
            <a:ext cx="9144000" cy="53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281x Boot-SCIA Flash Programm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ff Staffo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cation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CFKA to Unsecured RAM LOAD Addr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4723920"/>
            <a:ext cx="70866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1125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t-ROM code controls 28x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1125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t-ROM SCI-A code transfers CKFA to LOAD addresses in unsecured 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1125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Counter set to CKFA entry point when transfer is comp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523880" y="990720"/>
            <a:ext cx="6324840" cy="3276360"/>
            <a:chOff x="1523880" y="990720"/>
            <a:chExt cx="6324840" cy="3276360"/>
          </a:xfrm>
        </p:grpSpPr>
        <p:sp>
          <p:nvSpPr>
            <p:cNvPr id="85" name=""/>
            <p:cNvSpPr/>
            <p:nvPr/>
          </p:nvSpPr>
          <p:spPr>
            <a:xfrm>
              <a:off x="1523880" y="3352680"/>
              <a:ext cx="1676520" cy="914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62320" y="3733920"/>
              <a:ext cx="838080" cy="533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S-23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24240" y="3417840"/>
              <a:ext cx="99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C or 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"/>
            <p:cNvCxnSpPr>
              <a:stCxn id="86" idx="3"/>
            </p:cNvCxnSpPr>
            <p:nvPr/>
          </p:nvCxnSpPr>
          <p:spPr>
            <a:xfrm>
              <a:off x="3200400" y="4000320"/>
              <a:ext cx="1296000" cy="1080"/>
            </a:xfrm>
            <a:prstGeom prst="straightConnector1">
              <a:avLst/>
            </a:prstGeom>
            <a:ln w="28440">
              <a:solidFill>
                <a:srgbClr val="66ff33"/>
              </a:solidFill>
              <a:prstDash val="dash"/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4495680" y="990720"/>
              <a:ext cx="3353040" cy="3276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95680" y="3733920"/>
              <a:ext cx="838440" cy="533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95880" y="1066680"/>
              <a:ext cx="1447920" cy="29718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95880" y="3733920"/>
              <a:ext cx="1447920" cy="3045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oot-R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5880" y="2819520"/>
              <a:ext cx="1447920" cy="8380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secured 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"/>
            <p:cNvCxnSpPr>
              <a:stCxn id="90" idx="3"/>
              <a:endCxn id="93" idx="1"/>
            </p:cNvCxnSpPr>
            <p:nvPr/>
          </p:nvCxnSpPr>
          <p:spPr>
            <a:xfrm flipV="1">
              <a:off x="5334120" y="3237840"/>
              <a:ext cx="762480" cy="76284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3399ff"/>
              </a:solidFill>
              <a:miter/>
              <a:tailEnd len="med" type="triangle" w="med"/>
            </a:ln>
          </p:spPr>
        </p:cxnSp>
        <p:sp>
          <p:nvSpPr>
            <p:cNvPr id="95" name=""/>
            <p:cNvSpPr/>
            <p:nvPr/>
          </p:nvSpPr>
          <p:spPr>
            <a:xfrm>
              <a:off x="4952880" y="2743200"/>
              <a:ext cx="6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" name=""/>
            <p:cNvCxnSpPr>
              <a:stCxn id="95" idx="3"/>
            </p:cNvCxnSpPr>
            <p:nvPr/>
          </p:nvCxnSpPr>
          <p:spPr>
            <a:xfrm>
              <a:off x="5581440" y="2925360"/>
              <a:ext cx="294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" name=""/>
            <p:cNvSpPr/>
            <p:nvPr/>
          </p:nvSpPr>
          <p:spPr>
            <a:xfrm>
              <a:off x="4495680" y="990720"/>
              <a:ext cx="114300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8x CP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5320" y="365760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KF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KFA Unlocks CSM and Transfers to RAM RUN Addr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125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KFA in unsecured RAM controls 28x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125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KFA unlocks CS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125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KFA copies itself from LOAD addresses to RUN addresses in secured 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523880" y="990720"/>
            <a:ext cx="6324840" cy="3276360"/>
            <a:chOff x="1523880" y="990720"/>
            <a:chExt cx="6324840" cy="3276360"/>
          </a:xfrm>
        </p:grpSpPr>
        <p:sp>
          <p:nvSpPr>
            <p:cNvPr id="102" name=""/>
            <p:cNvSpPr/>
            <p:nvPr/>
          </p:nvSpPr>
          <p:spPr>
            <a:xfrm>
              <a:off x="1523880" y="3352680"/>
              <a:ext cx="1676520" cy="914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62320" y="3733920"/>
              <a:ext cx="838080" cy="533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S-23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4240" y="3417840"/>
              <a:ext cx="99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C or 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990720"/>
              <a:ext cx="3353040" cy="3276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95680" y="3733920"/>
              <a:ext cx="838440" cy="533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95880" y="1066680"/>
              <a:ext cx="1447920" cy="29718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5880" y="3733920"/>
              <a:ext cx="1447920" cy="3045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oot-R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"/>
            <p:cNvCxnSpPr>
              <a:stCxn id="110" idx="1"/>
              <a:endCxn id="111" idx="1"/>
            </p:cNvCxnSpPr>
            <p:nvPr/>
          </p:nvCxnSpPr>
          <p:spPr>
            <a:xfrm flipH="1" flipV="1" rot="10800000">
              <a:off x="6094800" y="1371240"/>
              <a:ext cx="2520" cy="186768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ff9933"/>
              </a:solidFill>
              <a:miter/>
              <a:head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4495680" y="990720"/>
              <a:ext cx="1143000" cy="9144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8x CP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95880" y="1219320"/>
              <a:ext cx="1447920" cy="304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cured 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5880" y="2819520"/>
              <a:ext cx="1447920" cy="8380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secured 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3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FA Transfers AppCode to RAM Buffer #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KFA in secured RAM controls 28x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KFA uses SCI-A to transfer 4KW of AppCode to RAM Buffer #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3880" y="990720"/>
            <a:ext cx="6324840" cy="3276360"/>
            <a:chOff x="1523880" y="990720"/>
            <a:chExt cx="6324840" cy="3276360"/>
          </a:xfrm>
        </p:grpSpPr>
        <p:sp>
          <p:nvSpPr>
            <p:cNvPr id="116" name=""/>
            <p:cNvSpPr/>
            <p:nvPr/>
          </p:nvSpPr>
          <p:spPr>
            <a:xfrm>
              <a:off x="1523880" y="3352680"/>
              <a:ext cx="1676520" cy="914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62320" y="3733920"/>
              <a:ext cx="838080" cy="533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S-23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24240" y="3417840"/>
              <a:ext cx="99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C or 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95680" y="990720"/>
              <a:ext cx="3353040" cy="3276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95680" y="3733920"/>
              <a:ext cx="838440" cy="533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95680" y="990720"/>
              <a:ext cx="114300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8x CP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5880" y="1066680"/>
              <a:ext cx="1447920" cy="29718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5880" y="3733920"/>
              <a:ext cx="1447920" cy="3045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oot-R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"/>
            <p:cNvCxnSpPr>
              <a:stCxn id="125" idx="1"/>
              <a:endCxn id="120" idx="3"/>
            </p:cNvCxnSpPr>
            <p:nvPr/>
          </p:nvCxnSpPr>
          <p:spPr>
            <a:xfrm flipV="1" rot="10800000">
              <a:off x="5333400" y="3047760"/>
              <a:ext cx="762480" cy="95328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ff9933"/>
              </a:solidFill>
              <a:miter/>
              <a:headEnd len="med" type="triangle" w="med"/>
            </a:ln>
          </p:spPr>
        </p:cxnSp>
        <p:sp>
          <p:nvSpPr>
            <p:cNvPr id="126" name=""/>
            <p:cNvSpPr/>
            <p:nvPr/>
          </p:nvSpPr>
          <p:spPr>
            <a:xfrm>
              <a:off x="6095880" y="1219320"/>
              <a:ext cx="1447920" cy="304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cured 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95880" y="3276720"/>
              <a:ext cx="144792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M Buffer #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5880" y="2819520"/>
              <a:ext cx="14479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M Buffer #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" name=""/>
            <p:cNvCxnSpPr/>
            <p:nvPr/>
          </p:nvCxnSpPr>
          <p:spPr>
            <a:xfrm>
              <a:off x="3200400" y="4000320"/>
              <a:ext cx="1296000" cy="1080"/>
            </a:xfrm>
            <a:prstGeom prst="straightConnector1">
              <a:avLst/>
            </a:prstGeom>
            <a:ln w="28440">
              <a:solidFill>
                <a:srgbClr val="66ff33"/>
              </a:solidFill>
              <a:prstDash val="dash"/>
              <a:miter/>
              <a:tailEnd len="med" type="triangle" w="med"/>
            </a:ln>
          </p:spPr>
        </p:cxnSp>
        <p:sp>
          <p:nvSpPr>
            <p:cNvPr id="129" name=""/>
            <p:cNvSpPr/>
            <p:nvPr/>
          </p:nvSpPr>
          <p:spPr>
            <a:xfrm>
              <a:off x="3352680" y="365760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pC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4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FA Starts Programming Fla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KFA in secured RAM controls 28x C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KFA programs flash with RAM Buffer #1 cont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KFA transfers next 4KW of AppCode to RAM Buffer #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523880" y="990720"/>
            <a:ext cx="6324840" cy="3276360"/>
            <a:chOff x="1523880" y="990720"/>
            <a:chExt cx="6324840" cy="3276360"/>
          </a:xfrm>
        </p:grpSpPr>
        <p:sp>
          <p:nvSpPr>
            <p:cNvPr id="133" name=""/>
            <p:cNvSpPr/>
            <p:nvPr/>
          </p:nvSpPr>
          <p:spPr>
            <a:xfrm>
              <a:off x="1523880" y="3352680"/>
              <a:ext cx="1676520" cy="914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62320" y="3733920"/>
              <a:ext cx="838080" cy="533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S-23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4240" y="3417840"/>
              <a:ext cx="99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C or 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95680" y="990720"/>
              <a:ext cx="3353040" cy="3276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95680" y="3733920"/>
              <a:ext cx="838440" cy="533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95680" y="990720"/>
              <a:ext cx="114300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8x CP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95880" y="1066680"/>
              <a:ext cx="1447920" cy="29718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5880" y="3733920"/>
              <a:ext cx="1447920" cy="3045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oot-R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"/>
            <p:cNvCxnSpPr>
              <a:stCxn id="142" idx="1"/>
              <a:endCxn id="137" idx="3"/>
            </p:cNvCxnSpPr>
            <p:nvPr/>
          </p:nvCxnSpPr>
          <p:spPr>
            <a:xfrm flipV="1" rot="10800000">
              <a:off x="5333400" y="3466800"/>
              <a:ext cx="762480" cy="53424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ff9933"/>
              </a:solidFill>
              <a:miter/>
              <a:headEnd len="med" type="triangle" w="med"/>
            </a:ln>
          </p:spPr>
        </p:cxnSp>
        <p:sp>
          <p:nvSpPr>
            <p:cNvPr id="143" name=""/>
            <p:cNvSpPr/>
            <p:nvPr/>
          </p:nvSpPr>
          <p:spPr>
            <a:xfrm>
              <a:off x="6095880" y="1219320"/>
              <a:ext cx="1447920" cy="304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cured 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95880" y="3276720"/>
              <a:ext cx="144792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M Buffer #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5880" y="2819520"/>
              <a:ext cx="14479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M Buffer #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5" name=""/>
            <p:cNvCxnSpPr/>
            <p:nvPr/>
          </p:nvCxnSpPr>
          <p:spPr>
            <a:xfrm>
              <a:off x="3200400" y="4000320"/>
              <a:ext cx="1296000" cy="1080"/>
            </a:xfrm>
            <a:prstGeom prst="straightConnector1">
              <a:avLst/>
            </a:prstGeom>
            <a:ln w="28440">
              <a:solidFill>
                <a:srgbClr val="66ff33"/>
              </a:solidFill>
              <a:prstDash val="dash"/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3352680" y="365760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pC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95880" y="1600200"/>
              <a:ext cx="1447920" cy="1143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las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" name=""/>
            <p:cNvCxnSpPr>
              <a:stCxn id="147" idx="3"/>
              <a:endCxn id="144" idx="3"/>
            </p:cNvCxnSpPr>
            <p:nvPr/>
          </p:nvCxnSpPr>
          <p:spPr>
            <a:xfrm>
              <a:off x="7543800" y="2171880"/>
              <a:ext cx="2160" cy="876960"/>
            </a:xfrm>
            <a:prstGeom prst="bentConnector3">
              <a:avLst>
                <a:gd name="adj1" fmla="val 14400000"/>
              </a:avLst>
            </a:prstGeom>
            <a:ln w="28440">
              <a:solidFill>
                <a:srgbClr val="ff9933"/>
              </a:solidFill>
              <a:miter/>
              <a:head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5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sh Programming Comple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1125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 is reset, setting program counter = 0x3F7FF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125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Code in flash controls 28x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125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RAM available for AppCode u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125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57600 bps, 64 KW program time = 24 se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523880" y="990720"/>
            <a:ext cx="6324840" cy="3276360"/>
            <a:chOff x="1523880" y="990720"/>
            <a:chExt cx="6324840" cy="3276360"/>
          </a:xfrm>
        </p:grpSpPr>
        <p:sp>
          <p:nvSpPr>
            <p:cNvPr id="152" name=""/>
            <p:cNvSpPr/>
            <p:nvPr/>
          </p:nvSpPr>
          <p:spPr>
            <a:xfrm>
              <a:off x="1523880" y="3352680"/>
              <a:ext cx="1676520" cy="914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62320" y="3733920"/>
              <a:ext cx="838080" cy="533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S-23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24240" y="3417840"/>
              <a:ext cx="99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C or 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990720"/>
              <a:ext cx="3353040" cy="3276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95680" y="3733920"/>
              <a:ext cx="838440" cy="533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5680" y="990720"/>
              <a:ext cx="114300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8x CP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95880" y="1066680"/>
              <a:ext cx="1447920" cy="29718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5880" y="3733920"/>
              <a:ext cx="1447920" cy="3045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oot-R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95880" y="1219320"/>
              <a:ext cx="1447920" cy="304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cured 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3276720"/>
              <a:ext cx="144792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M Buffer #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95880" y="2819520"/>
              <a:ext cx="14479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M Buffer #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95880" y="1600200"/>
              <a:ext cx="1447920" cy="1143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las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21280" y="2454120"/>
              <a:ext cx="62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" name=""/>
            <p:cNvCxnSpPr>
              <a:stCxn id="164" idx="3"/>
              <a:endCxn id="166" idx="1"/>
            </p:cNvCxnSpPr>
            <p:nvPr/>
          </p:nvCxnSpPr>
          <p:spPr>
            <a:xfrm flipV="1">
              <a:off x="5649480" y="2628720"/>
              <a:ext cx="446760" cy="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6095880" y="2514600"/>
              <a:ext cx="14479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x3F7ff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ulated ICT Flash Program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5105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KFA and AppCode Transfer to Emulated ICT RAM by RS-232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KFA Transfer to Target RAM by Boot-ROM Controlled SC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Code Transfer to Target Flash by CKFA Controlled SC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 1.875 Mbps, 64 KW program time = 1.4 se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57200" y="1066680"/>
            <a:ext cx="8006760" cy="3876840"/>
            <a:chOff x="457200" y="1066680"/>
            <a:chExt cx="8006760" cy="3876840"/>
          </a:xfrm>
        </p:grpSpPr>
        <p:sp>
          <p:nvSpPr>
            <p:cNvPr id="170" name=""/>
            <p:cNvSpPr/>
            <p:nvPr/>
          </p:nvSpPr>
          <p:spPr>
            <a:xfrm>
              <a:off x="457200" y="2514600"/>
              <a:ext cx="9144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5800" y="2895480"/>
              <a:ext cx="685800" cy="3049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S-2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8640" y="251460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05520" y="1371600"/>
              <a:ext cx="3352680" cy="3276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05520" y="4114800"/>
              <a:ext cx="838080" cy="5335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05520" y="1371600"/>
              <a:ext cx="1143000" cy="9144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8x CP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05720" y="1447920"/>
              <a:ext cx="1447560" cy="29718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05720" y="4114800"/>
              <a:ext cx="1447560" cy="3049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oot-R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79" idx="1"/>
              <a:endCxn id="174" idx="3"/>
            </p:cNvCxnSpPr>
            <p:nvPr/>
          </p:nvCxnSpPr>
          <p:spPr>
            <a:xfrm flipV="1" rot="10800000">
              <a:off x="5942880" y="3847680"/>
              <a:ext cx="762840" cy="534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9933"/>
              </a:solidFill>
              <a:miter/>
              <a:headEnd len="med" type="triangle" w="med"/>
            </a:ln>
          </p:spPr>
        </p:cxnSp>
        <p:sp>
          <p:nvSpPr>
            <p:cNvPr id="180" name=""/>
            <p:cNvSpPr/>
            <p:nvPr/>
          </p:nvSpPr>
          <p:spPr>
            <a:xfrm>
              <a:off x="6705720" y="1447920"/>
              <a:ext cx="1447560" cy="4572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M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CKF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05720" y="3657600"/>
              <a:ext cx="144756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M Buffer #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05720" y="3200400"/>
              <a:ext cx="144756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M Buffer #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8080" y="35812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KFA and AppC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05720" y="1981080"/>
              <a:ext cx="1447560" cy="1143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lash (AppCode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4" name=""/>
            <p:cNvCxnSpPr>
              <a:stCxn id="183" idx="3"/>
              <a:endCxn id="181" idx="3"/>
            </p:cNvCxnSpPr>
            <p:nvPr/>
          </p:nvCxnSpPr>
          <p:spPr>
            <a:xfrm>
              <a:off x="8152920" y="2552760"/>
              <a:ext cx="2520" cy="876960"/>
            </a:xfrm>
            <a:prstGeom prst="bentConnector3">
              <a:avLst>
                <a:gd name="adj1" fmla="val 14400000"/>
              </a:avLst>
            </a:prstGeom>
            <a:ln w="28440">
              <a:solidFill>
                <a:srgbClr val="ff9933"/>
              </a:solidFill>
              <a:miter/>
              <a:headEnd len="med" type="triangle" w="med"/>
            </a:ln>
          </p:spPr>
        </p:cxnSp>
        <p:sp>
          <p:nvSpPr>
            <p:cNvPr id="185" name=""/>
            <p:cNvSpPr/>
            <p:nvPr/>
          </p:nvSpPr>
          <p:spPr>
            <a:xfrm>
              <a:off x="1676520" y="1371600"/>
              <a:ext cx="3276360" cy="3276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76520" y="4114800"/>
              <a:ext cx="838080" cy="5335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76520" y="1371600"/>
              <a:ext cx="1143000" cy="9144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8x CP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76720" y="1447920"/>
              <a:ext cx="1447560" cy="29718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76720" y="4114800"/>
              <a:ext cx="1447560" cy="3049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oot-R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0" name=""/>
            <p:cNvCxnSpPr>
              <a:endCxn id="186" idx="3"/>
            </p:cNvCxnSpPr>
            <p:nvPr/>
          </p:nvCxnSpPr>
          <p:spPr>
            <a:xfrm flipV="1" rot="10800000">
              <a:off x="2513880" y="3847680"/>
              <a:ext cx="762840" cy="534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</p:cxnSp>
        <p:sp>
          <p:nvSpPr>
            <p:cNvPr id="191" name=""/>
            <p:cNvSpPr/>
            <p:nvPr/>
          </p:nvSpPr>
          <p:spPr>
            <a:xfrm>
              <a:off x="3276720" y="3200400"/>
              <a:ext cx="1447560" cy="838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ernal RAM (CKF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76720" y="1981080"/>
              <a:ext cx="1447560" cy="1143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las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00200" y="106668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mulated ICT (281x eZds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05520" y="106668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281x Targ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" name=""/>
            <p:cNvCxnSpPr>
              <a:stCxn id="186" idx="2"/>
              <a:endCxn id="174" idx="2"/>
            </p:cNvCxnSpPr>
            <p:nvPr/>
          </p:nvCxnSpPr>
          <p:spPr>
            <a:xfrm flipH="1" rot="16200000">
              <a:off x="3808440" y="2934360"/>
              <a:ext cx="2160" cy="3429720"/>
            </a:xfrm>
            <a:prstGeom prst="bentConnector3">
              <a:avLst>
                <a:gd name="adj1" fmla="val 16400000"/>
              </a:avLst>
            </a:prstGeom>
            <a:ln w="28440">
              <a:solidFill>
                <a:srgbClr val="66ff33"/>
              </a:solidFill>
              <a:prstDash val="dash"/>
              <a:miter/>
              <a:tailEnd len="med" type="triangle" w="med"/>
            </a:ln>
          </p:spPr>
        </p:cxnSp>
        <p:sp>
          <p:nvSpPr>
            <p:cNvPr id="196" name=""/>
            <p:cNvSpPr/>
            <p:nvPr/>
          </p:nvSpPr>
          <p:spPr>
            <a:xfrm>
              <a:off x="2286000" y="2438280"/>
              <a:ext cx="838080" cy="609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M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AppCode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" name=""/>
            <p:cNvCxnSpPr>
              <a:stCxn id="196" idx="2"/>
              <a:endCxn id="198" idx="0"/>
            </p:cNvCxnSpPr>
            <p:nvPr/>
          </p:nvCxnSpPr>
          <p:spPr>
            <a:xfrm rot="5400000">
              <a:off x="2247120" y="2895480"/>
              <a:ext cx="305280" cy="610200"/>
            </a:xfrm>
            <a:prstGeom prst="bentConnector3">
              <a:avLst>
                <a:gd name="adj1" fmla="val 49940"/>
              </a:avLst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</p:cxnSp>
        <p:cxnSp>
          <p:nvCxnSpPr>
            <p:cNvPr id="199" name=""/>
            <p:cNvCxnSpPr>
              <a:stCxn id="171" idx="2"/>
              <a:endCxn id="198" idx="1"/>
            </p:cNvCxnSpPr>
            <p:nvPr/>
          </p:nvCxnSpPr>
          <p:spPr>
            <a:xfrm flipH="1" rot="16200000">
              <a:off x="1142280" y="3085920"/>
              <a:ext cx="419760" cy="648360"/>
            </a:xfrm>
            <a:prstGeom prst="bentConnector2">
              <a:avLst/>
            </a:prstGeom>
            <a:ln w="28440">
              <a:solidFill>
                <a:srgbClr val="66ff33"/>
              </a:solidFill>
              <a:prstDash val="dash"/>
              <a:miter/>
              <a:tailEnd len="med" type="triangle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3048120" y="4680000"/>
              <a:ext cx="1447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KFA and AppC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76720" y="1447920"/>
              <a:ext cx="1447560" cy="4572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M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ICT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76520" y="3352680"/>
              <a:ext cx="838080" cy="5335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391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ulated ICT - H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971800" y="9907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62120" y="3473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ulated ICT (EI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24066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RS-232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67480" y="28954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CS JTAG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29600" y="137160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281x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118728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CT - Target Direct SCI 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286000" y="1371240"/>
            <a:ext cx="2514600" cy="228600"/>
          </a:xfrm>
          <a:prstGeom prst="line">
            <a:avLst/>
          </a:prstGeom>
          <a:ln w="57240">
            <a:solidFill>
              <a:srgbClr val="ddddd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0" y="1600200"/>
            <a:ext cx="2362320" cy="457200"/>
          </a:xfrm>
          <a:prstGeom prst="line">
            <a:avLst/>
          </a:prstGeom>
          <a:ln w="57240">
            <a:solidFill>
              <a:srgbClr val="ddddd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057400" y="2590560"/>
            <a:ext cx="1905120" cy="75960"/>
          </a:xfrm>
          <a:prstGeom prst="line">
            <a:avLst/>
          </a:prstGeom>
          <a:ln w="57240">
            <a:solidFill>
              <a:srgbClr val="ddddd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133720" y="2895120"/>
            <a:ext cx="2819160" cy="762120"/>
          </a:xfrm>
          <a:prstGeom prst="line">
            <a:avLst/>
          </a:prstGeom>
          <a:ln w="57240">
            <a:solidFill>
              <a:srgbClr val="ddddd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400800" y="1523880"/>
            <a:ext cx="914400" cy="0"/>
          </a:xfrm>
          <a:prstGeom prst="line">
            <a:avLst/>
          </a:prstGeom>
          <a:ln w="57240">
            <a:solidFill>
              <a:srgbClr val="ddddd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715000" y="2286000"/>
            <a:ext cx="1752480" cy="838080"/>
          </a:xfrm>
          <a:prstGeom prst="line">
            <a:avLst/>
          </a:prstGeom>
          <a:ln w="57240">
            <a:solidFill>
              <a:srgbClr val="ddddd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4266720"/>
            <a:ext cx="3581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rdwar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 F2812 eZdsps From Spectrum Digit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-232 Interface from Link Resear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TAG Emulator from Spectrum Digit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267080"/>
            <a:ext cx="3581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ftw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 = HyperTer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CT = Application Report EICT S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65a9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= Application Report CKFA S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7:40:20Z</dcterms:created>
  <dc:creator>TI User</dc:creator>
  <dc:description/>
  <dc:language>en-US</dc:language>
  <cp:lastModifiedBy>Jeff Stafford</cp:lastModifiedBy>
  <dcterms:modified xsi:type="dcterms:W3CDTF">2007-07-25T04:55:49Z</dcterms:modified>
  <cp:revision>61</cp:revision>
  <dc:subject/>
  <dc:title>Boot-SCIA Flash Programming</dc:title>
</cp:coreProperties>
</file>