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77075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4920" y="685800"/>
            <a:ext cx="8534160" cy="0"/>
          </a:xfrm>
          <a:prstGeom prst="line">
            <a:avLst/>
          </a:prstGeom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5743440"/>
            <a:ext cx="1843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005520" y="5295960"/>
            <a:ext cx="1461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6934320" y="6553080"/>
            <a:ext cx="304560" cy="228600"/>
            <a:chOff x="6934320" y="6553080"/>
            <a:chExt cx="304560" cy="228600"/>
          </a:xfrm>
        </p:grpSpPr>
        <p:sp>
          <p:nvSpPr>
            <p:cNvPr id="4" name=""/>
            <p:cNvSpPr/>
            <p:nvPr/>
          </p:nvSpPr>
          <p:spPr>
            <a:xfrm>
              <a:off x="7123680" y="6576480"/>
              <a:ext cx="32760" cy="22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18" y="27"/>
                  </a:moveTo>
                  <a:lnTo>
                    <a:pt x="21" y="27"/>
                  </a:lnTo>
                  <a:lnTo>
                    <a:pt x="25" y="27"/>
                  </a:lnTo>
                  <a:lnTo>
                    <a:pt x="25" y="27"/>
                  </a:lnTo>
                  <a:lnTo>
                    <a:pt x="25" y="27"/>
                  </a:lnTo>
                  <a:lnTo>
                    <a:pt x="28" y="27"/>
                  </a:lnTo>
                  <a:lnTo>
                    <a:pt x="28" y="27"/>
                  </a:lnTo>
                  <a:lnTo>
                    <a:pt x="28" y="24"/>
                  </a:lnTo>
                  <a:lnTo>
                    <a:pt x="32" y="24"/>
                  </a:lnTo>
                  <a:lnTo>
                    <a:pt x="32" y="21"/>
                  </a:lnTo>
                  <a:lnTo>
                    <a:pt x="32" y="21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35" y="15"/>
                  </a:lnTo>
                  <a:lnTo>
                    <a:pt x="35" y="15"/>
                  </a:lnTo>
                  <a:lnTo>
                    <a:pt x="35" y="15"/>
                  </a:lnTo>
                  <a:lnTo>
                    <a:pt x="35" y="12"/>
                  </a:lnTo>
                  <a:lnTo>
                    <a:pt x="32" y="9"/>
                  </a:lnTo>
                  <a:lnTo>
                    <a:pt x="32" y="9"/>
                  </a:lnTo>
                  <a:lnTo>
                    <a:pt x="32" y="9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28" y="3"/>
                  </a:lnTo>
                  <a:lnTo>
                    <a:pt x="28" y="3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11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6"/>
                  </a:lnTo>
                  <a:lnTo>
                    <a:pt x="4" y="6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4" y="21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4" y="27"/>
                  </a:lnTo>
                  <a:lnTo>
                    <a:pt x="7" y="27"/>
                  </a:lnTo>
                  <a:lnTo>
                    <a:pt x="7" y="27"/>
                  </a:lnTo>
                  <a:lnTo>
                    <a:pt x="11" y="27"/>
                  </a:lnTo>
                  <a:lnTo>
                    <a:pt x="11" y="27"/>
                  </a:lnTo>
                  <a:lnTo>
                    <a:pt x="14" y="27"/>
                  </a:lnTo>
                  <a:lnTo>
                    <a:pt x="14" y="27"/>
                  </a:lnTo>
                  <a:lnTo>
                    <a:pt x="14" y="27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094520" y="6606720"/>
              <a:ext cx="52560" cy="84960"/>
            </a:xfrm>
            <a:custGeom>
              <a:avLst/>
              <a:gdLst/>
              <a:ahLst/>
              <a:rect l="l" t="t" r="r" b="b"/>
              <a:pathLst>
                <a:path w="56" h="98">
                  <a:moveTo>
                    <a:pt x="31" y="98"/>
                  </a:moveTo>
                  <a:lnTo>
                    <a:pt x="56" y="0"/>
                  </a:lnTo>
                  <a:lnTo>
                    <a:pt x="28" y="0"/>
                  </a:lnTo>
                  <a:lnTo>
                    <a:pt x="0" y="98"/>
                  </a:lnTo>
                  <a:lnTo>
                    <a:pt x="31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934320" y="6553080"/>
              <a:ext cx="304560" cy="228600"/>
            </a:xfrm>
            <a:custGeom>
              <a:avLst/>
              <a:gdLst/>
              <a:ahLst/>
              <a:rect l="l" t="t" r="r" b="b"/>
              <a:pathLst>
                <a:path w="323" h="264">
                  <a:moveTo>
                    <a:pt x="215" y="264"/>
                  </a:moveTo>
                  <a:lnTo>
                    <a:pt x="219" y="264"/>
                  </a:lnTo>
                  <a:lnTo>
                    <a:pt x="222" y="264"/>
                  </a:lnTo>
                  <a:lnTo>
                    <a:pt x="226" y="264"/>
                  </a:lnTo>
                  <a:lnTo>
                    <a:pt x="226" y="264"/>
                  </a:lnTo>
                  <a:lnTo>
                    <a:pt x="229" y="264"/>
                  </a:lnTo>
                  <a:lnTo>
                    <a:pt x="229" y="264"/>
                  </a:lnTo>
                  <a:lnTo>
                    <a:pt x="229" y="264"/>
                  </a:lnTo>
                  <a:lnTo>
                    <a:pt x="233" y="261"/>
                  </a:lnTo>
                  <a:lnTo>
                    <a:pt x="233" y="261"/>
                  </a:lnTo>
                  <a:lnTo>
                    <a:pt x="236" y="261"/>
                  </a:lnTo>
                  <a:lnTo>
                    <a:pt x="236" y="261"/>
                  </a:lnTo>
                  <a:lnTo>
                    <a:pt x="236" y="261"/>
                  </a:lnTo>
                  <a:lnTo>
                    <a:pt x="236" y="261"/>
                  </a:lnTo>
                  <a:lnTo>
                    <a:pt x="236" y="261"/>
                  </a:lnTo>
                  <a:lnTo>
                    <a:pt x="236" y="258"/>
                  </a:lnTo>
                  <a:lnTo>
                    <a:pt x="236" y="258"/>
                  </a:lnTo>
                  <a:lnTo>
                    <a:pt x="236" y="255"/>
                  </a:lnTo>
                  <a:lnTo>
                    <a:pt x="233" y="255"/>
                  </a:lnTo>
                  <a:lnTo>
                    <a:pt x="233" y="252"/>
                  </a:lnTo>
                  <a:lnTo>
                    <a:pt x="233" y="252"/>
                  </a:lnTo>
                  <a:lnTo>
                    <a:pt x="233" y="249"/>
                  </a:lnTo>
                  <a:lnTo>
                    <a:pt x="233" y="249"/>
                  </a:lnTo>
                  <a:lnTo>
                    <a:pt x="229" y="246"/>
                  </a:lnTo>
                  <a:lnTo>
                    <a:pt x="229" y="246"/>
                  </a:lnTo>
                  <a:lnTo>
                    <a:pt x="229" y="243"/>
                  </a:lnTo>
                  <a:lnTo>
                    <a:pt x="229" y="243"/>
                  </a:lnTo>
                  <a:lnTo>
                    <a:pt x="229" y="240"/>
                  </a:lnTo>
                  <a:lnTo>
                    <a:pt x="229" y="237"/>
                  </a:lnTo>
                  <a:lnTo>
                    <a:pt x="229" y="237"/>
                  </a:lnTo>
                  <a:lnTo>
                    <a:pt x="229" y="234"/>
                  </a:lnTo>
                  <a:lnTo>
                    <a:pt x="229" y="231"/>
                  </a:lnTo>
                  <a:lnTo>
                    <a:pt x="229" y="225"/>
                  </a:lnTo>
                  <a:lnTo>
                    <a:pt x="233" y="222"/>
                  </a:lnTo>
                  <a:lnTo>
                    <a:pt x="233" y="219"/>
                  </a:lnTo>
                  <a:lnTo>
                    <a:pt x="236" y="216"/>
                  </a:lnTo>
                  <a:lnTo>
                    <a:pt x="236" y="213"/>
                  </a:lnTo>
                  <a:lnTo>
                    <a:pt x="239" y="210"/>
                  </a:lnTo>
                  <a:lnTo>
                    <a:pt x="243" y="207"/>
                  </a:lnTo>
                  <a:lnTo>
                    <a:pt x="243" y="204"/>
                  </a:lnTo>
                  <a:lnTo>
                    <a:pt x="246" y="204"/>
                  </a:lnTo>
                  <a:lnTo>
                    <a:pt x="250" y="201"/>
                  </a:lnTo>
                  <a:lnTo>
                    <a:pt x="253" y="198"/>
                  </a:lnTo>
                  <a:lnTo>
                    <a:pt x="257" y="196"/>
                  </a:lnTo>
                  <a:lnTo>
                    <a:pt x="260" y="193"/>
                  </a:lnTo>
                  <a:lnTo>
                    <a:pt x="264" y="190"/>
                  </a:lnTo>
                  <a:lnTo>
                    <a:pt x="264" y="190"/>
                  </a:lnTo>
                  <a:lnTo>
                    <a:pt x="271" y="187"/>
                  </a:lnTo>
                  <a:lnTo>
                    <a:pt x="274" y="184"/>
                  </a:lnTo>
                  <a:lnTo>
                    <a:pt x="281" y="181"/>
                  </a:lnTo>
                  <a:lnTo>
                    <a:pt x="285" y="181"/>
                  </a:lnTo>
                  <a:lnTo>
                    <a:pt x="288" y="178"/>
                  </a:lnTo>
                  <a:lnTo>
                    <a:pt x="292" y="175"/>
                  </a:lnTo>
                  <a:lnTo>
                    <a:pt x="295" y="175"/>
                  </a:lnTo>
                  <a:lnTo>
                    <a:pt x="298" y="175"/>
                  </a:lnTo>
                  <a:lnTo>
                    <a:pt x="302" y="172"/>
                  </a:lnTo>
                  <a:lnTo>
                    <a:pt x="305" y="172"/>
                  </a:lnTo>
                  <a:lnTo>
                    <a:pt x="309" y="169"/>
                  </a:lnTo>
                  <a:lnTo>
                    <a:pt x="312" y="169"/>
                  </a:lnTo>
                  <a:lnTo>
                    <a:pt x="312" y="169"/>
                  </a:lnTo>
                  <a:lnTo>
                    <a:pt x="316" y="166"/>
                  </a:lnTo>
                  <a:lnTo>
                    <a:pt x="319" y="166"/>
                  </a:lnTo>
                  <a:lnTo>
                    <a:pt x="319" y="166"/>
                  </a:lnTo>
                  <a:lnTo>
                    <a:pt x="319" y="166"/>
                  </a:lnTo>
                  <a:lnTo>
                    <a:pt x="319" y="166"/>
                  </a:lnTo>
                  <a:lnTo>
                    <a:pt x="319" y="166"/>
                  </a:lnTo>
                  <a:lnTo>
                    <a:pt x="323" y="163"/>
                  </a:lnTo>
                  <a:lnTo>
                    <a:pt x="323" y="160"/>
                  </a:lnTo>
                  <a:lnTo>
                    <a:pt x="323" y="160"/>
                  </a:lnTo>
                  <a:lnTo>
                    <a:pt x="323" y="157"/>
                  </a:lnTo>
                  <a:lnTo>
                    <a:pt x="323" y="157"/>
                  </a:lnTo>
                  <a:lnTo>
                    <a:pt x="323" y="154"/>
                  </a:lnTo>
                  <a:lnTo>
                    <a:pt x="323" y="151"/>
                  </a:lnTo>
                  <a:lnTo>
                    <a:pt x="323" y="148"/>
                  </a:lnTo>
                  <a:lnTo>
                    <a:pt x="323" y="145"/>
                  </a:lnTo>
                  <a:lnTo>
                    <a:pt x="323" y="142"/>
                  </a:lnTo>
                  <a:lnTo>
                    <a:pt x="323" y="139"/>
                  </a:lnTo>
                  <a:lnTo>
                    <a:pt x="323" y="136"/>
                  </a:lnTo>
                  <a:lnTo>
                    <a:pt x="323" y="133"/>
                  </a:lnTo>
                  <a:lnTo>
                    <a:pt x="323" y="130"/>
                  </a:lnTo>
                  <a:lnTo>
                    <a:pt x="323" y="130"/>
                  </a:lnTo>
                  <a:lnTo>
                    <a:pt x="323" y="128"/>
                  </a:lnTo>
                  <a:lnTo>
                    <a:pt x="323" y="125"/>
                  </a:lnTo>
                  <a:lnTo>
                    <a:pt x="323" y="122"/>
                  </a:lnTo>
                  <a:lnTo>
                    <a:pt x="323" y="122"/>
                  </a:lnTo>
                  <a:lnTo>
                    <a:pt x="323" y="119"/>
                  </a:lnTo>
                  <a:lnTo>
                    <a:pt x="323" y="119"/>
                  </a:lnTo>
                  <a:lnTo>
                    <a:pt x="323" y="116"/>
                  </a:lnTo>
                  <a:lnTo>
                    <a:pt x="323" y="116"/>
                  </a:lnTo>
                  <a:lnTo>
                    <a:pt x="323" y="116"/>
                  </a:lnTo>
                  <a:lnTo>
                    <a:pt x="323" y="116"/>
                  </a:lnTo>
                  <a:lnTo>
                    <a:pt x="323" y="113"/>
                  </a:lnTo>
                  <a:lnTo>
                    <a:pt x="323" y="113"/>
                  </a:lnTo>
                  <a:lnTo>
                    <a:pt x="323" y="113"/>
                  </a:lnTo>
                  <a:lnTo>
                    <a:pt x="323" y="113"/>
                  </a:lnTo>
                  <a:lnTo>
                    <a:pt x="323" y="113"/>
                  </a:lnTo>
                  <a:lnTo>
                    <a:pt x="319" y="113"/>
                  </a:lnTo>
                  <a:lnTo>
                    <a:pt x="319" y="113"/>
                  </a:lnTo>
                  <a:lnTo>
                    <a:pt x="316" y="110"/>
                  </a:lnTo>
                  <a:lnTo>
                    <a:pt x="316" y="107"/>
                  </a:lnTo>
                  <a:lnTo>
                    <a:pt x="312" y="107"/>
                  </a:lnTo>
                  <a:lnTo>
                    <a:pt x="312" y="107"/>
                  </a:lnTo>
                  <a:lnTo>
                    <a:pt x="309" y="104"/>
                  </a:lnTo>
                  <a:lnTo>
                    <a:pt x="309" y="101"/>
                  </a:lnTo>
                  <a:lnTo>
                    <a:pt x="309" y="98"/>
                  </a:lnTo>
                  <a:lnTo>
                    <a:pt x="305" y="92"/>
                  </a:lnTo>
                  <a:lnTo>
                    <a:pt x="305" y="89"/>
                  </a:lnTo>
                  <a:lnTo>
                    <a:pt x="305" y="86"/>
                  </a:lnTo>
                  <a:lnTo>
                    <a:pt x="305" y="83"/>
                  </a:lnTo>
                  <a:lnTo>
                    <a:pt x="305" y="80"/>
                  </a:lnTo>
                  <a:lnTo>
                    <a:pt x="305" y="80"/>
                  </a:lnTo>
                  <a:lnTo>
                    <a:pt x="305" y="80"/>
                  </a:lnTo>
                  <a:lnTo>
                    <a:pt x="305" y="77"/>
                  </a:lnTo>
                  <a:lnTo>
                    <a:pt x="305" y="74"/>
                  </a:lnTo>
                  <a:lnTo>
                    <a:pt x="305" y="74"/>
                  </a:lnTo>
                  <a:lnTo>
                    <a:pt x="305" y="71"/>
                  </a:lnTo>
                  <a:lnTo>
                    <a:pt x="305" y="68"/>
                  </a:lnTo>
                  <a:lnTo>
                    <a:pt x="305" y="68"/>
                  </a:lnTo>
                  <a:lnTo>
                    <a:pt x="305" y="65"/>
                  </a:lnTo>
                  <a:lnTo>
                    <a:pt x="305" y="65"/>
                  </a:lnTo>
                  <a:lnTo>
                    <a:pt x="305" y="62"/>
                  </a:lnTo>
                  <a:lnTo>
                    <a:pt x="305" y="59"/>
                  </a:lnTo>
                  <a:lnTo>
                    <a:pt x="305" y="59"/>
                  </a:lnTo>
                  <a:lnTo>
                    <a:pt x="305" y="59"/>
                  </a:lnTo>
                  <a:lnTo>
                    <a:pt x="309" y="57"/>
                  </a:lnTo>
                  <a:lnTo>
                    <a:pt x="305" y="57"/>
                  </a:lnTo>
                  <a:lnTo>
                    <a:pt x="302" y="57"/>
                  </a:lnTo>
                  <a:lnTo>
                    <a:pt x="298" y="57"/>
                  </a:lnTo>
                  <a:lnTo>
                    <a:pt x="295" y="54"/>
                  </a:lnTo>
                  <a:lnTo>
                    <a:pt x="292" y="54"/>
                  </a:lnTo>
                  <a:lnTo>
                    <a:pt x="288" y="54"/>
                  </a:lnTo>
                  <a:lnTo>
                    <a:pt x="285" y="54"/>
                  </a:lnTo>
                  <a:lnTo>
                    <a:pt x="278" y="54"/>
                  </a:lnTo>
                  <a:lnTo>
                    <a:pt x="274" y="54"/>
                  </a:lnTo>
                  <a:lnTo>
                    <a:pt x="271" y="54"/>
                  </a:lnTo>
                  <a:lnTo>
                    <a:pt x="267" y="54"/>
                  </a:lnTo>
                  <a:lnTo>
                    <a:pt x="260" y="54"/>
                  </a:lnTo>
                  <a:lnTo>
                    <a:pt x="257" y="54"/>
                  </a:lnTo>
                  <a:lnTo>
                    <a:pt x="250" y="54"/>
                  </a:lnTo>
                  <a:lnTo>
                    <a:pt x="246" y="54"/>
                  </a:lnTo>
                  <a:lnTo>
                    <a:pt x="246" y="54"/>
                  </a:lnTo>
                  <a:lnTo>
                    <a:pt x="236" y="83"/>
                  </a:lnTo>
                  <a:lnTo>
                    <a:pt x="264" y="83"/>
                  </a:lnTo>
                  <a:lnTo>
                    <a:pt x="253" y="113"/>
                  </a:lnTo>
                  <a:lnTo>
                    <a:pt x="229" y="113"/>
                  </a:lnTo>
                  <a:lnTo>
                    <a:pt x="219" y="154"/>
                  </a:lnTo>
                  <a:lnTo>
                    <a:pt x="219" y="157"/>
                  </a:lnTo>
                  <a:lnTo>
                    <a:pt x="219" y="157"/>
                  </a:lnTo>
                  <a:lnTo>
                    <a:pt x="219" y="157"/>
                  </a:lnTo>
                  <a:lnTo>
                    <a:pt x="219" y="160"/>
                  </a:lnTo>
                  <a:lnTo>
                    <a:pt x="219" y="160"/>
                  </a:lnTo>
                  <a:lnTo>
                    <a:pt x="219" y="160"/>
                  </a:lnTo>
                  <a:lnTo>
                    <a:pt x="219" y="160"/>
                  </a:lnTo>
                  <a:lnTo>
                    <a:pt x="219" y="160"/>
                  </a:lnTo>
                  <a:lnTo>
                    <a:pt x="219" y="163"/>
                  </a:lnTo>
                  <a:lnTo>
                    <a:pt x="222" y="163"/>
                  </a:lnTo>
                  <a:lnTo>
                    <a:pt x="222" y="163"/>
                  </a:lnTo>
                  <a:lnTo>
                    <a:pt x="222" y="163"/>
                  </a:lnTo>
                  <a:lnTo>
                    <a:pt x="222" y="163"/>
                  </a:lnTo>
                  <a:lnTo>
                    <a:pt x="222" y="163"/>
                  </a:lnTo>
                  <a:lnTo>
                    <a:pt x="226" y="163"/>
                  </a:lnTo>
                  <a:lnTo>
                    <a:pt x="226" y="163"/>
                  </a:lnTo>
                  <a:lnTo>
                    <a:pt x="226" y="163"/>
                  </a:lnTo>
                  <a:lnTo>
                    <a:pt x="226" y="163"/>
                  </a:lnTo>
                  <a:lnTo>
                    <a:pt x="229" y="163"/>
                  </a:lnTo>
                  <a:lnTo>
                    <a:pt x="229" y="163"/>
                  </a:lnTo>
                  <a:lnTo>
                    <a:pt x="229" y="163"/>
                  </a:lnTo>
                  <a:lnTo>
                    <a:pt x="229" y="163"/>
                  </a:lnTo>
                  <a:lnTo>
                    <a:pt x="233" y="163"/>
                  </a:lnTo>
                  <a:lnTo>
                    <a:pt x="233" y="163"/>
                  </a:lnTo>
                  <a:lnTo>
                    <a:pt x="233" y="163"/>
                  </a:lnTo>
                  <a:lnTo>
                    <a:pt x="236" y="163"/>
                  </a:lnTo>
                  <a:lnTo>
                    <a:pt x="236" y="163"/>
                  </a:lnTo>
                  <a:lnTo>
                    <a:pt x="236" y="163"/>
                  </a:lnTo>
                  <a:lnTo>
                    <a:pt x="236" y="163"/>
                  </a:lnTo>
                  <a:lnTo>
                    <a:pt x="239" y="163"/>
                  </a:lnTo>
                  <a:lnTo>
                    <a:pt x="239" y="163"/>
                  </a:lnTo>
                  <a:lnTo>
                    <a:pt x="239" y="160"/>
                  </a:lnTo>
                  <a:lnTo>
                    <a:pt x="229" y="187"/>
                  </a:lnTo>
                  <a:lnTo>
                    <a:pt x="229" y="190"/>
                  </a:lnTo>
                  <a:lnTo>
                    <a:pt x="229" y="190"/>
                  </a:lnTo>
                  <a:lnTo>
                    <a:pt x="229" y="190"/>
                  </a:lnTo>
                  <a:lnTo>
                    <a:pt x="226" y="190"/>
                  </a:lnTo>
                  <a:lnTo>
                    <a:pt x="226" y="190"/>
                  </a:lnTo>
                  <a:lnTo>
                    <a:pt x="222" y="190"/>
                  </a:lnTo>
                  <a:lnTo>
                    <a:pt x="219" y="193"/>
                  </a:lnTo>
                  <a:lnTo>
                    <a:pt x="215" y="193"/>
                  </a:lnTo>
                  <a:lnTo>
                    <a:pt x="212" y="193"/>
                  </a:lnTo>
                  <a:lnTo>
                    <a:pt x="208" y="193"/>
                  </a:lnTo>
                  <a:lnTo>
                    <a:pt x="205" y="193"/>
                  </a:lnTo>
                  <a:lnTo>
                    <a:pt x="201" y="196"/>
                  </a:lnTo>
                  <a:lnTo>
                    <a:pt x="198" y="196"/>
                  </a:lnTo>
                  <a:lnTo>
                    <a:pt x="194" y="196"/>
                  </a:lnTo>
                  <a:lnTo>
                    <a:pt x="191" y="196"/>
                  </a:lnTo>
                  <a:lnTo>
                    <a:pt x="187" y="196"/>
                  </a:lnTo>
                  <a:lnTo>
                    <a:pt x="184" y="196"/>
                  </a:lnTo>
                  <a:lnTo>
                    <a:pt x="180" y="196"/>
                  </a:lnTo>
                  <a:lnTo>
                    <a:pt x="177" y="196"/>
                  </a:lnTo>
                  <a:lnTo>
                    <a:pt x="174" y="193"/>
                  </a:lnTo>
                  <a:lnTo>
                    <a:pt x="174" y="193"/>
                  </a:lnTo>
                  <a:lnTo>
                    <a:pt x="170" y="193"/>
                  </a:lnTo>
                  <a:lnTo>
                    <a:pt x="170" y="193"/>
                  </a:lnTo>
                  <a:lnTo>
                    <a:pt x="167" y="190"/>
                  </a:lnTo>
                  <a:lnTo>
                    <a:pt x="167" y="190"/>
                  </a:lnTo>
                  <a:lnTo>
                    <a:pt x="163" y="190"/>
                  </a:lnTo>
                  <a:lnTo>
                    <a:pt x="163" y="187"/>
                  </a:lnTo>
                  <a:lnTo>
                    <a:pt x="160" y="184"/>
                  </a:lnTo>
                  <a:lnTo>
                    <a:pt x="160" y="184"/>
                  </a:lnTo>
                  <a:lnTo>
                    <a:pt x="160" y="181"/>
                  </a:lnTo>
                  <a:lnTo>
                    <a:pt x="156" y="178"/>
                  </a:lnTo>
                  <a:lnTo>
                    <a:pt x="156" y="178"/>
                  </a:lnTo>
                  <a:lnTo>
                    <a:pt x="156" y="175"/>
                  </a:lnTo>
                  <a:lnTo>
                    <a:pt x="156" y="175"/>
                  </a:lnTo>
                  <a:lnTo>
                    <a:pt x="156" y="172"/>
                  </a:lnTo>
                  <a:lnTo>
                    <a:pt x="156" y="169"/>
                  </a:lnTo>
                  <a:lnTo>
                    <a:pt x="156" y="169"/>
                  </a:lnTo>
                  <a:lnTo>
                    <a:pt x="156" y="166"/>
                  </a:lnTo>
                  <a:lnTo>
                    <a:pt x="156" y="166"/>
                  </a:lnTo>
                  <a:lnTo>
                    <a:pt x="156" y="163"/>
                  </a:lnTo>
                  <a:lnTo>
                    <a:pt x="156" y="160"/>
                  </a:lnTo>
                  <a:lnTo>
                    <a:pt x="156" y="160"/>
                  </a:lnTo>
                  <a:lnTo>
                    <a:pt x="156" y="157"/>
                  </a:lnTo>
                  <a:lnTo>
                    <a:pt x="156" y="157"/>
                  </a:lnTo>
                  <a:lnTo>
                    <a:pt x="156" y="154"/>
                  </a:lnTo>
                  <a:lnTo>
                    <a:pt x="156" y="151"/>
                  </a:lnTo>
                  <a:lnTo>
                    <a:pt x="156" y="151"/>
                  </a:lnTo>
                  <a:lnTo>
                    <a:pt x="160" y="151"/>
                  </a:lnTo>
                  <a:lnTo>
                    <a:pt x="167" y="113"/>
                  </a:lnTo>
                  <a:lnTo>
                    <a:pt x="142" y="113"/>
                  </a:lnTo>
                  <a:lnTo>
                    <a:pt x="153" y="83"/>
                  </a:lnTo>
                  <a:lnTo>
                    <a:pt x="174" y="83"/>
                  </a:lnTo>
                  <a:lnTo>
                    <a:pt x="184" y="51"/>
                  </a:lnTo>
                  <a:lnTo>
                    <a:pt x="180" y="48"/>
                  </a:lnTo>
                  <a:lnTo>
                    <a:pt x="180" y="48"/>
                  </a:lnTo>
                  <a:lnTo>
                    <a:pt x="177" y="48"/>
                  </a:lnTo>
                  <a:lnTo>
                    <a:pt x="177" y="48"/>
                  </a:lnTo>
                  <a:lnTo>
                    <a:pt x="174" y="48"/>
                  </a:lnTo>
                  <a:lnTo>
                    <a:pt x="174" y="48"/>
                  </a:lnTo>
                  <a:lnTo>
                    <a:pt x="174" y="48"/>
                  </a:lnTo>
                  <a:lnTo>
                    <a:pt x="174" y="45"/>
                  </a:lnTo>
                  <a:lnTo>
                    <a:pt x="170" y="45"/>
                  </a:lnTo>
                  <a:lnTo>
                    <a:pt x="170" y="45"/>
                  </a:lnTo>
                  <a:lnTo>
                    <a:pt x="170" y="45"/>
                  </a:lnTo>
                  <a:lnTo>
                    <a:pt x="167" y="45"/>
                  </a:lnTo>
                  <a:lnTo>
                    <a:pt x="167" y="45"/>
                  </a:lnTo>
                  <a:lnTo>
                    <a:pt x="167" y="45"/>
                  </a:lnTo>
                  <a:lnTo>
                    <a:pt x="167" y="45"/>
                  </a:lnTo>
                  <a:lnTo>
                    <a:pt x="167" y="42"/>
                  </a:lnTo>
                  <a:lnTo>
                    <a:pt x="167" y="0"/>
                  </a:lnTo>
                  <a:lnTo>
                    <a:pt x="156" y="0"/>
                  </a:lnTo>
                  <a:lnTo>
                    <a:pt x="153" y="0"/>
                  </a:lnTo>
                  <a:lnTo>
                    <a:pt x="149" y="0"/>
                  </a:lnTo>
                  <a:lnTo>
                    <a:pt x="142" y="0"/>
                  </a:lnTo>
                  <a:lnTo>
                    <a:pt x="139" y="0"/>
                  </a:lnTo>
                  <a:lnTo>
                    <a:pt x="132" y="0"/>
                  </a:lnTo>
                  <a:lnTo>
                    <a:pt x="128" y="0"/>
                  </a:lnTo>
                  <a:lnTo>
                    <a:pt x="121" y="0"/>
                  </a:lnTo>
                  <a:lnTo>
                    <a:pt x="118" y="0"/>
                  </a:lnTo>
                  <a:lnTo>
                    <a:pt x="115" y="0"/>
                  </a:lnTo>
                  <a:lnTo>
                    <a:pt x="111" y="0"/>
                  </a:lnTo>
                  <a:lnTo>
                    <a:pt x="104" y="0"/>
                  </a:lnTo>
                  <a:lnTo>
                    <a:pt x="101" y="0"/>
                  </a:lnTo>
                  <a:lnTo>
                    <a:pt x="94" y="0"/>
                  </a:lnTo>
                  <a:lnTo>
                    <a:pt x="90" y="0"/>
                  </a:lnTo>
                  <a:lnTo>
                    <a:pt x="87" y="0"/>
                  </a:lnTo>
                  <a:lnTo>
                    <a:pt x="87" y="12"/>
                  </a:lnTo>
                  <a:lnTo>
                    <a:pt x="87" y="18"/>
                  </a:lnTo>
                  <a:lnTo>
                    <a:pt x="87" y="24"/>
                  </a:lnTo>
                  <a:lnTo>
                    <a:pt x="87" y="30"/>
                  </a:lnTo>
                  <a:lnTo>
                    <a:pt x="87" y="36"/>
                  </a:lnTo>
                  <a:lnTo>
                    <a:pt x="87" y="42"/>
                  </a:lnTo>
                  <a:lnTo>
                    <a:pt x="87" y="48"/>
                  </a:lnTo>
                  <a:lnTo>
                    <a:pt x="87" y="54"/>
                  </a:lnTo>
                  <a:lnTo>
                    <a:pt x="87" y="59"/>
                  </a:lnTo>
                  <a:lnTo>
                    <a:pt x="87" y="65"/>
                  </a:lnTo>
                  <a:lnTo>
                    <a:pt x="87" y="71"/>
                  </a:lnTo>
                  <a:lnTo>
                    <a:pt x="87" y="77"/>
                  </a:lnTo>
                  <a:lnTo>
                    <a:pt x="87" y="86"/>
                  </a:lnTo>
                  <a:lnTo>
                    <a:pt x="87" y="92"/>
                  </a:lnTo>
                  <a:lnTo>
                    <a:pt x="87" y="98"/>
                  </a:lnTo>
                  <a:lnTo>
                    <a:pt x="87" y="101"/>
                  </a:lnTo>
                  <a:lnTo>
                    <a:pt x="0" y="101"/>
                  </a:lnTo>
                  <a:lnTo>
                    <a:pt x="4" y="110"/>
                  </a:lnTo>
                  <a:lnTo>
                    <a:pt x="4" y="113"/>
                  </a:lnTo>
                  <a:lnTo>
                    <a:pt x="7" y="116"/>
                  </a:lnTo>
                  <a:lnTo>
                    <a:pt x="7" y="122"/>
                  </a:lnTo>
                  <a:lnTo>
                    <a:pt x="10" y="122"/>
                  </a:lnTo>
                  <a:lnTo>
                    <a:pt x="14" y="128"/>
                  </a:lnTo>
                  <a:lnTo>
                    <a:pt x="17" y="130"/>
                  </a:lnTo>
                  <a:lnTo>
                    <a:pt x="21" y="130"/>
                  </a:lnTo>
                  <a:lnTo>
                    <a:pt x="21" y="133"/>
                  </a:lnTo>
                  <a:lnTo>
                    <a:pt x="28" y="136"/>
                  </a:lnTo>
                  <a:lnTo>
                    <a:pt x="31" y="139"/>
                  </a:lnTo>
                  <a:lnTo>
                    <a:pt x="31" y="142"/>
                  </a:lnTo>
                  <a:lnTo>
                    <a:pt x="35" y="145"/>
                  </a:lnTo>
                  <a:lnTo>
                    <a:pt x="38" y="148"/>
                  </a:lnTo>
                  <a:lnTo>
                    <a:pt x="38" y="151"/>
                  </a:lnTo>
                  <a:lnTo>
                    <a:pt x="42" y="151"/>
                  </a:lnTo>
                  <a:lnTo>
                    <a:pt x="42" y="154"/>
                  </a:lnTo>
                  <a:lnTo>
                    <a:pt x="45" y="157"/>
                  </a:lnTo>
                  <a:lnTo>
                    <a:pt x="45" y="160"/>
                  </a:lnTo>
                  <a:lnTo>
                    <a:pt x="49" y="163"/>
                  </a:lnTo>
                  <a:lnTo>
                    <a:pt x="49" y="166"/>
                  </a:lnTo>
                  <a:lnTo>
                    <a:pt x="52" y="169"/>
                  </a:lnTo>
                  <a:lnTo>
                    <a:pt x="52" y="172"/>
                  </a:lnTo>
                  <a:lnTo>
                    <a:pt x="56" y="175"/>
                  </a:lnTo>
                  <a:lnTo>
                    <a:pt x="56" y="178"/>
                  </a:lnTo>
                  <a:lnTo>
                    <a:pt x="59" y="181"/>
                  </a:lnTo>
                  <a:lnTo>
                    <a:pt x="62" y="184"/>
                  </a:lnTo>
                  <a:lnTo>
                    <a:pt x="62" y="184"/>
                  </a:lnTo>
                  <a:lnTo>
                    <a:pt x="66" y="187"/>
                  </a:lnTo>
                  <a:lnTo>
                    <a:pt x="69" y="187"/>
                  </a:lnTo>
                  <a:lnTo>
                    <a:pt x="73" y="187"/>
                  </a:lnTo>
                  <a:lnTo>
                    <a:pt x="76" y="187"/>
                  </a:lnTo>
                  <a:lnTo>
                    <a:pt x="80" y="187"/>
                  </a:lnTo>
                  <a:lnTo>
                    <a:pt x="80" y="187"/>
                  </a:lnTo>
                  <a:lnTo>
                    <a:pt x="83" y="187"/>
                  </a:lnTo>
                  <a:lnTo>
                    <a:pt x="87" y="184"/>
                  </a:lnTo>
                  <a:lnTo>
                    <a:pt x="87" y="184"/>
                  </a:lnTo>
                  <a:lnTo>
                    <a:pt x="90" y="181"/>
                  </a:lnTo>
                  <a:lnTo>
                    <a:pt x="90" y="181"/>
                  </a:lnTo>
                  <a:lnTo>
                    <a:pt x="94" y="178"/>
                  </a:lnTo>
                  <a:lnTo>
                    <a:pt x="94" y="175"/>
                  </a:lnTo>
                  <a:lnTo>
                    <a:pt x="97" y="175"/>
                  </a:lnTo>
                  <a:lnTo>
                    <a:pt x="97" y="175"/>
                  </a:lnTo>
                  <a:lnTo>
                    <a:pt x="101" y="172"/>
                  </a:lnTo>
                  <a:lnTo>
                    <a:pt x="104" y="172"/>
                  </a:lnTo>
                  <a:lnTo>
                    <a:pt x="104" y="172"/>
                  </a:lnTo>
                  <a:lnTo>
                    <a:pt x="108" y="169"/>
                  </a:lnTo>
                  <a:lnTo>
                    <a:pt x="111" y="169"/>
                  </a:lnTo>
                  <a:lnTo>
                    <a:pt x="115" y="172"/>
                  </a:lnTo>
                  <a:lnTo>
                    <a:pt x="118" y="172"/>
                  </a:lnTo>
                  <a:lnTo>
                    <a:pt x="121" y="175"/>
                  </a:lnTo>
                  <a:lnTo>
                    <a:pt x="125" y="175"/>
                  </a:lnTo>
                  <a:lnTo>
                    <a:pt x="128" y="181"/>
                  </a:lnTo>
                  <a:lnTo>
                    <a:pt x="132" y="184"/>
                  </a:lnTo>
                  <a:lnTo>
                    <a:pt x="132" y="187"/>
                  </a:lnTo>
                  <a:lnTo>
                    <a:pt x="135" y="190"/>
                  </a:lnTo>
                  <a:lnTo>
                    <a:pt x="139" y="196"/>
                  </a:lnTo>
                  <a:lnTo>
                    <a:pt x="142" y="201"/>
                  </a:lnTo>
                  <a:lnTo>
                    <a:pt x="142" y="204"/>
                  </a:lnTo>
                  <a:lnTo>
                    <a:pt x="146" y="210"/>
                  </a:lnTo>
                  <a:lnTo>
                    <a:pt x="149" y="216"/>
                  </a:lnTo>
                  <a:lnTo>
                    <a:pt x="153" y="222"/>
                  </a:lnTo>
                  <a:lnTo>
                    <a:pt x="156" y="225"/>
                  </a:lnTo>
                  <a:lnTo>
                    <a:pt x="156" y="228"/>
                  </a:lnTo>
                  <a:lnTo>
                    <a:pt x="160" y="234"/>
                  </a:lnTo>
                  <a:lnTo>
                    <a:pt x="163" y="237"/>
                  </a:lnTo>
                  <a:lnTo>
                    <a:pt x="167" y="240"/>
                  </a:lnTo>
                  <a:lnTo>
                    <a:pt x="170" y="246"/>
                  </a:lnTo>
                  <a:lnTo>
                    <a:pt x="174" y="246"/>
                  </a:lnTo>
                  <a:lnTo>
                    <a:pt x="177" y="249"/>
                  </a:lnTo>
                  <a:lnTo>
                    <a:pt x="180" y="252"/>
                  </a:lnTo>
                  <a:lnTo>
                    <a:pt x="184" y="255"/>
                  </a:lnTo>
                  <a:lnTo>
                    <a:pt x="187" y="258"/>
                  </a:lnTo>
                  <a:lnTo>
                    <a:pt x="191" y="261"/>
                  </a:lnTo>
                  <a:lnTo>
                    <a:pt x="194" y="261"/>
                  </a:lnTo>
                  <a:lnTo>
                    <a:pt x="201" y="261"/>
                  </a:lnTo>
                  <a:lnTo>
                    <a:pt x="205" y="264"/>
                  </a:lnTo>
                  <a:lnTo>
                    <a:pt x="208" y="264"/>
                  </a:lnTo>
                  <a:lnTo>
                    <a:pt x="212" y="264"/>
                  </a:lnTo>
                  <a:lnTo>
                    <a:pt x="212" y="264"/>
                  </a:lnTo>
                  <a:lnTo>
                    <a:pt x="215" y="2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7219080" y="649116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S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STR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51"/>
              </a:spcBef>
              <a:buClr>
                <a:srgbClr val="000000"/>
              </a:buClr>
              <a:buSzPct val="50000"/>
              <a:buFont typeface="ZapfDingbats BT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451"/>
              </a:spcBef>
              <a:buClr>
                <a:srgbClr val="000000"/>
              </a:buClr>
              <a:buFont typeface="Bell M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ll MT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  <a:p>
            <a:pPr lvl="5" marL="1771560" indent="-228600">
              <a:spcBef>
                <a:spcPts val="451"/>
              </a:spcBef>
              <a:buClr>
                <a:srgbClr val="000000"/>
              </a:buClr>
              <a:buFont typeface="Bell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ll MT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  <a:p>
            <a:pPr lvl="6" marL="1771560" indent="-228600">
              <a:spcBef>
                <a:spcPts val="451"/>
              </a:spcBef>
              <a:buClr>
                <a:srgbClr val="000000"/>
              </a:buClr>
              <a:buFont typeface="Bell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ll MT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534160" cy="828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" y="1828800"/>
            <a:ext cx="8686800" cy="2122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04920" y="4038480"/>
            <a:ext cx="8534160" cy="2324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10560" y="2990880"/>
            <a:ext cx="37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37560" y="21286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18720" y="25527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9520" y="21337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75880" y="21286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99760" y="25527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75880" y="29811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09240" y="29671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9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28080" y="34099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95080" y="3400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9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6400" y="25480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66400" y="34052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347560" y="21286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909520" y="21240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71480" y="21286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42800" y="21240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09440" y="21240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23680" y="25480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85640" y="25527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2000" y="25480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323960" y="25480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37840" y="29718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9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99800" y="29764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9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76160" y="29718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47480" y="29718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8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19000" y="33955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9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80960" y="3400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9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756960" y="33955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8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28640" y="33955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8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12680" y="29782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8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71400" y="21286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95280" y="25527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71400" y="29811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8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90600" y="3400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461920" y="25480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61920" y="34052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743080" y="21286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05040" y="21240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67000" y="21286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438680" y="21240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05320" y="21240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200" y="25480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81160" y="25527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157520" y="25480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719480" y="25480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33720" y="29718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95680" y="29764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71680" y="29718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443360" y="29718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7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14520" y="33955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76480" y="3400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7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152840" y="33955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7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724160" y="33955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008560" y="29782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7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286120" y="25527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286120" y="3400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7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3840" y="53276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5280" y="44146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85160" y="48639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91520" y="44197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91760" y="48704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88640" y="53290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82280" y="57848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7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99680" y="57754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02800" y="53276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04600" y="44146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004480" y="48639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10840" y="44197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11080" y="48704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7600" y="53290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001240" y="57848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619000" y="57754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22120" y="53276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23560" y="44146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23800" y="48639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30160" y="44197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30040" y="48704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26920" y="53290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20560" y="57848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37960" y="57754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34960" y="53276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36400" y="44146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68680" y="486396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75040" y="44197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74920" y="487044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39760" y="53290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5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33400" y="57848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5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050800" y="57754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5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567120" y="53276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600600" y="44146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900840" y="486396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207200" y="44197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07080" y="487044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71920" y="53290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65560" y="57848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482960" y="57754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086320" y="57816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816680" y="440676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121600" y="487044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91120" y="53211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6360" y="6305400"/>
            <a:ext cx="97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p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06600" y="2567160"/>
            <a:ext cx="287280" cy="25380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332240" y="2567160"/>
            <a:ext cx="287280" cy="25380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164360" y="2560680"/>
            <a:ext cx="287280" cy="25380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765680" y="4417920"/>
            <a:ext cx="287280" cy="25416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49600" y="4417920"/>
            <a:ext cx="287280" cy="25416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156200" y="4421160"/>
            <a:ext cx="287280" cy="25416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940120" y="4408560"/>
            <a:ext cx="287280" cy="25380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765680" y="5332320"/>
            <a:ext cx="287280" cy="25416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49600" y="5332320"/>
            <a:ext cx="287280" cy="25416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56200" y="5335560"/>
            <a:ext cx="287280" cy="25416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940120" y="5322960"/>
            <a:ext cx="287280" cy="25380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217720" y="4389480"/>
            <a:ext cx="82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t +5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8410320" y="4651200"/>
            <a:ext cx="152280" cy="181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172280" y="3397320"/>
            <a:ext cx="287280" cy="253800"/>
          </a:xfrm>
          <a:prstGeom prst="rect">
            <a:avLst/>
          </a:prstGeom>
          <a:noFill/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340160" y="3397320"/>
            <a:ext cx="287280" cy="253800"/>
          </a:xfrm>
          <a:prstGeom prst="rect">
            <a:avLst/>
          </a:prstGeom>
          <a:noFill/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49920" y="2970360"/>
            <a:ext cx="287280" cy="253800"/>
          </a:xfrm>
          <a:prstGeom prst="rect">
            <a:avLst/>
          </a:prstGeom>
          <a:noFill/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28960" y="2987640"/>
            <a:ext cx="287280" cy="254160"/>
          </a:xfrm>
          <a:prstGeom prst="rect">
            <a:avLst/>
          </a:prstGeom>
          <a:noFill/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797120" y="2976480"/>
            <a:ext cx="287280" cy="254160"/>
          </a:xfrm>
          <a:prstGeom prst="rect">
            <a:avLst/>
          </a:prstGeom>
          <a:noFill/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47680" y="2432160"/>
            <a:ext cx="8686800" cy="21222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629640" y="3594240"/>
            <a:ext cx="37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56640" y="27320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37800" y="31561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18600" y="27367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94960" y="27320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18840" y="31561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94960" y="35845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28320" y="35701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9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47160" y="40132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13800" y="400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9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85480" y="31510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085480" y="40086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366280" y="27320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28600" y="27273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90560" y="27320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061880" y="27273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28520" y="27273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642760" y="31510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04720" y="31561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81080" y="31510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343040" y="31510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56920" y="35751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9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918880" y="35798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9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95240" y="35751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066560" y="35751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8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638080" y="39988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9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00040" y="400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9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776040" y="39988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8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47720" y="39988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8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631760" y="35812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8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90480" y="27320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914360" y="31561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190480" y="35845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8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909680" y="400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481000" y="31510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481000" y="40086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762160" y="27320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24120" y="27273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86080" y="27320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457400" y="27273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024400" y="27273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38280" y="31510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600240" y="31561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176600" y="31510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738560" y="31510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752440" y="35751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314400" y="35798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90760" y="35751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462440" y="35751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7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33600" y="39988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595560" y="400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7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171920" y="39988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7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743240" y="39988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027640" y="35812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7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05200" y="31561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305200" y="400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7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33440" y="262260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33440" y="2986200"/>
            <a:ext cx="271800" cy="17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06680" y="3151080"/>
            <a:ext cx="1440" cy="24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2243160" y="3398760"/>
            <a:ext cx="26496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239560" y="3576600"/>
            <a:ext cx="3240" cy="27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43160" y="3852720"/>
            <a:ext cx="266760" cy="169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508120" y="401796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23800" y="26319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23800" y="2995560"/>
            <a:ext cx="271440" cy="17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97040" y="3160800"/>
            <a:ext cx="1440" cy="24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533520" y="3408480"/>
            <a:ext cx="26496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529920" y="3586320"/>
            <a:ext cx="3240" cy="274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3520" y="3862440"/>
            <a:ext cx="266760" cy="169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98480" y="4027320"/>
            <a:ext cx="0" cy="34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29040" y="26272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929040" y="2990880"/>
            <a:ext cx="271440" cy="17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202280" y="3156120"/>
            <a:ext cx="1440" cy="247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938760" y="3403440"/>
            <a:ext cx="26496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3935160" y="3581280"/>
            <a:ext cx="3240" cy="27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938760" y="3857760"/>
            <a:ext cx="266400" cy="16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203720" y="40226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643720" y="260352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643720" y="2967120"/>
            <a:ext cx="271440" cy="17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916600" y="3132000"/>
            <a:ext cx="1440" cy="24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653080" y="3379680"/>
            <a:ext cx="26496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5649480" y="3557520"/>
            <a:ext cx="3240" cy="27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653080" y="3833640"/>
            <a:ext cx="266760" cy="169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918040" y="399888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332840" y="26290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332840" y="2992320"/>
            <a:ext cx="271440" cy="17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605720" y="3157560"/>
            <a:ext cx="1440" cy="24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342200" y="3405240"/>
            <a:ext cx="26496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7338600" y="3583080"/>
            <a:ext cx="3240" cy="27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42200" y="3859200"/>
            <a:ext cx="266760" cy="169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07160" y="40244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527120" y="3160800"/>
            <a:ext cx="287280" cy="25380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352760" y="3160800"/>
            <a:ext cx="287640" cy="25380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184880" y="3154320"/>
            <a:ext cx="287640" cy="25416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178760" y="4005360"/>
            <a:ext cx="287280" cy="253800"/>
          </a:xfrm>
          <a:prstGeom prst="rect">
            <a:avLst/>
          </a:prstGeom>
          <a:noFill/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936880" y="3583080"/>
            <a:ext cx="287280" cy="253800"/>
          </a:xfrm>
          <a:prstGeom prst="rect">
            <a:avLst/>
          </a:prstGeom>
          <a:noFill/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69000" y="3583080"/>
            <a:ext cx="287280" cy="253800"/>
          </a:xfrm>
          <a:prstGeom prst="rect">
            <a:avLst/>
          </a:prstGeom>
          <a:noFill/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349880" y="4008600"/>
            <a:ext cx="287280" cy="253800"/>
          </a:xfrm>
          <a:prstGeom prst="rect">
            <a:avLst/>
          </a:prstGeom>
          <a:noFill/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803240" y="3583080"/>
            <a:ext cx="287640" cy="253800"/>
          </a:xfrm>
          <a:prstGeom prst="rect">
            <a:avLst/>
          </a:prstGeom>
          <a:noFill/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06360" y="6305400"/>
            <a:ext cx="97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p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31960" y="1397160"/>
            <a:ext cx="287280" cy="25380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20800" y="1854360"/>
            <a:ext cx="287280" cy="253800"/>
          </a:xfrm>
          <a:prstGeom prst="rect">
            <a:avLst/>
          </a:prstGeom>
          <a:noFill/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216800" y="1325520"/>
            <a:ext cx="79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G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36600" y="181116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+5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314280" y="2344680"/>
            <a:ext cx="8534520" cy="23241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93200" y="36338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94640" y="27208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94880" y="31701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101240" y="2725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401120" y="31766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98000" y="36352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91640" y="40910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7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409040" y="40813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712520" y="36338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713960" y="27208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14200" y="31701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320560" y="2725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620440" y="31766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317320" y="36352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010960" y="40910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8360" y="40813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931480" y="36338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933280" y="27208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233160" y="31701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539520" y="2725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39760" y="31766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536280" y="36352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29920" y="40910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47680" y="40813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44320" y="36338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46120" y="27208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478040" y="317016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784400" y="272556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084640" y="317664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749120" y="36352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5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442760" y="40910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5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60520" y="40813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5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576480" y="36338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10320" y="27208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910200" y="317016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216560" y="272556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516800" y="317664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181280" y="36352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74920" y="40910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92320" y="40813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095680" y="40878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826040" y="271296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130960" y="317664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800480" y="36273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39840" y="2584440"/>
            <a:ext cx="1440" cy="43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41280" y="3017880"/>
            <a:ext cx="271440" cy="17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14520" y="3182760"/>
            <a:ext cx="1440" cy="24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351000" y="3430440"/>
            <a:ext cx="26496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347400" y="3608280"/>
            <a:ext cx="3240" cy="30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51000" y="3914640"/>
            <a:ext cx="266400" cy="169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614520" y="4078440"/>
            <a:ext cx="288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178000" y="2579760"/>
            <a:ext cx="1800" cy="43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179800" y="3013200"/>
            <a:ext cx="271440" cy="17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452680" y="3178080"/>
            <a:ext cx="1440" cy="24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2189160" y="3425760"/>
            <a:ext cx="26496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2185560" y="3603600"/>
            <a:ext cx="3240" cy="30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189160" y="3909960"/>
            <a:ext cx="266760" cy="169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2452320" y="4073400"/>
            <a:ext cx="3240" cy="39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011480" y="2575080"/>
            <a:ext cx="1800" cy="43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013280" y="3008160"/>
            <a:ext cx="271440" cy="17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286160" y="3173400"/>
            <a:ext cx="1800" cy="24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4022640" y="3421080"/>
            <a:ext cx="26532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4019040" y="3598920"/>
            <a:ext cx="3240" cy="30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022640" y="3905280"/>
            <a:ext cx="266760" cy="169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4285800" y="4068720"/>
            <a:ext cx="3240" cy="39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416640" y="2577960"/>
            <a:ext cx="1800" cy="43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418440" y="3011400"/>
            <a:ext cx="271440" cy="17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691320" y="3176640"/>
            <a:ext cx="1440" cy="24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6427800" y="3424320"/>
            <a:ext cx="26496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6424200" y="3602160"/>
            <a:ext cx="3240" cy="30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27800" y="3908520"/>
            <a:ext cx="266760" cy="169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6690960" y="4071960"/>
            <a:ext cx="3240" cy="39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251920" y="2571840"/>
            <a:ext cx="1440" cy="43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253360" y="3005280"/>
            <a:ext cx="271440" cy="17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526600" y="3170160"/>
            <a:ext cx="1440" cy="24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8263080" y="3417840"/>
            <a:ext cx="26496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8259480" y="3595680"/>
            <a:ext cx="3240" cy="30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263080" y="3902040"/>
            <a:ext cx="266400" cy="169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8526600" y="4065480"/>
            <a:ext cx="2880" cy="39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765680" y="2728800"/>
            <a:ext cx="287280" cy="25416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549600" y="2728800"/>
            <a:ext cx="287280" cy="25416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156200" y="2732040"/>
            <a:ext cx="287280" cy="25416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940120" y="2719440"/>
            <a:ext cx="287280" cy="25380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65680" y="3643200"/>
            <a:ext cx="287280" cy="25416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49600" y="3643200"/>
            <a:ext cx="287280" cy="25416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156200" y="3646440"/>
            <a:ext cx="287280" cy="25416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940120" y="3633840"/>
            <a:ext cx="287280" cy="25380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31960" y="1397160"/>
            <a:ext cx="287280" cy="25380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216800" y="1325520"/>
            <a:ext cx="79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G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6360" y="6305400"/>
            <a:ext cx="97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p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190720" y="2687760"/>
            <a:ext cx="82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t +5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8383320" y="2949480"/>
            <a:ext cx="152280" cy="181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8534160" cy="82872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304920" y="1905120"/>
            <a:ext cx="8534160" cy="232416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3"/>
          <a:stretch/>
        </p:blipFill>
        <p:spPr>
          <a:xfrm>
            <a:off x="235080" y="4260960"/>
            <a:ext cx="8686800" cy="212220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2261520" y="26798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301840" y="35956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992240" y="313704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695240" y="358776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385640" y="313056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666440" y="26812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969560" y="22226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348920" y="22194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52040" y="22255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85760" y="359424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80840" y="313056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053720" y="26798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351280" y="26798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8353080" y="35956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043480" y="31370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740000" y="35942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436880" y="31431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37120" y="26748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046360" y="22226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7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438680" y="22194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131960" y="26924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127280" y="35892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24160" y="31431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533640" y="35942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17560" y="3130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530400" y="26748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827400" y="22226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225840" y="22194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919120" y="26798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908320" y="35956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604840" y="31370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308200" y="35942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011200" y="31370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311440" y="26812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601960" y="22226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006520" y="22194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700160" y="26859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701600" y="35956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430520" y="314316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127400" y="358776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811320" y="313704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092120" y="26812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5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395240" y="22226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5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787200" y="22194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5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8154360" y="4991040"/>
            <a:ext cx="37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065360" y="49816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622640" y="49737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9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906680" y="45655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336800" y="45626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9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771600" y="45543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490800" y="49719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9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922360" y="49766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9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362200" y="49849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790520" y="49784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8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219360" y="45576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9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644800" y="45561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9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071680" y="45640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8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512600" y="45640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8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231800" y="49849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8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666600" y="49816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8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944520" y="45561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385800" y="45543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098160" y="49849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536200" y="49831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963080" y="49784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391760" y="49910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7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814120" y="45514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245680" y="45561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7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679040" y="45576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7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113840" y="45576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826560" y="49849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7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8360" y="45496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7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194320" y="58276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903800" y="54072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5880" y="58323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059240" y="58276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341840" y="53942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771600" y="54021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494040" y="58341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925600" y="58294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57160" y="58276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798440" y="58294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235040" y="58356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198840" y="54086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643000" y="54007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076360" y="54021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514400" y="54086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666600" y="58341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949200" y="54007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385800" y="54086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95280" y="58341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539440" y="58294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71000" y="58212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399680" y="58230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836280" y="58230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818800" y="54021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244240" y="54007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683720" y="54021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109160" y="54086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51880" y="54007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06360" y="6305400"/>
            <a:ext cx="97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p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932440" y="2687760"/>
            <a:ext cx="287280" cy="25380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716360" y="2687760"/>
            <a:ext cx="287280" cy="25380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322960" y="2690640"/>
            <a:ext cx="287280" cy="25416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106880" y="2678040"/>
            <a:ext cx="287280" cy="25416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932440" y="3602160"/>
            <a:ext cx="287280" cy="25380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716360" y="3602160"/>
            <a:ext cx="287280" cy="25380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322960" y="3605040"/>
            <a:ext cx="287280" cy="25416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106880" y="3592440"/>
            <a:ext cx="287280" cy="25416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700280" y="5403960"/>
            <a:ext cx="287280" cy="25380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25920" y="5403960"/>
            <a:ext cx="287280" cy="25380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358040" y="5397480"/>
            <a:ext cx="287280" cy="25416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35720" y="2608200"/>
            <a:ext cx="82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t +5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80960" y="2870280"/>
            <a:ext cx="274680" cy="201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064280" y="4965840"/>
            <a:ext cx="287280" cy="253800"/>
          </a:xfrm>
          <a:prstGeom prst="rect">
            <a:avLst/>
          </a:prstGeom>
          <a:noFill/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110040" y="4970520"/>
            <a:ext cx="287280" cy="253800"/>
          </a:xfrm>
          <a:prstGeom prst="rect">
            <a:avLst/>
          </a:prstGeom>
          <a:noFill/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942160" y="4964040"/>
            <a:ext cx="287280" cy="254160"/>
          </a:xfrm>
          <a:prstGeom prst="rect">
            <a:avLst/>
          </a:prstGeom>
          <a:noFill/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522680" y="4560840"/>
            <a:ext cx="287280" cy="254160"/>
          </a:xfrm>
          <a:prstGeom prst="rect">
            <a:avLst/>
          </a:prstGeom>
          <a:noFill/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697040" y="4549680"/>
            <a:ext cx="287280" cy="254160"/>
          </a:xfrm>
          <a:prstGeom prst="rect">
            <a:avLst/>
          </a:prstGeom>
          <a:noFill/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324000" y="2330280"/>
            <a:ext cx="8534160" cy="232416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2280600" y="31050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320920" y="40212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011320" y="35622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714320" y="40132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404720" y="35560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685520" y="31068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988640" y="26478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368000" y="26449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71120" y="26510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104840" y="40194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99920" y="35560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072800" y="31050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8370360" y="31050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8371800" y="40212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8062560" y="35622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759080" y="40194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455960" y="35686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755840" y="31003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8065440" y="26478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7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57400" y="26449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151040" y="31179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146360" y="40147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43240" y="35686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552720" y="40194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236640" y="35560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549480" y="31003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846480" y="26478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244560" y="26449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938200" y="31050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927040" y="40212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623920" y="35622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327280" y="40194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030280" y="35622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330160" y="31068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620680" y="26478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025600" y="26449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719240" y="31114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720680" y="40212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449600" y="35686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146480" y="40132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830400" y="35622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11200" y="31068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5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414320" y="26478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5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806280" y="26449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5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952960" y="3110040"/>
            <a:ext cx="287640" cy="25380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737240" y="3110040"/>
            <a:ext cx="287280" cy="25380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343480" y="3112920"/>
            <a:ext cx="287280" cy="25416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127400" y="3100320"/>
            <a:ext cx="287280" cy="25416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952960" y="4024440"/>
            <a:ext cx="287640" cy="25380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737240" y="4024440"/>
            <a:ext cx="287280" cy="25380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343480" y="4027320"/>
            <a:ext cx="287280" cy="25416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127400" y="4014720"/>
            <a:ext cx="287280" cy="25416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06360" y="6305400"/>
            <a:ext cx="97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p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33200" y="2995560"/>
            <a:ext cx="82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t +5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79520" y="3257640"/>
            <a:ext cx="268200" cy="255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209520" y="2403360"/>
            <a:ext cx="8686800" cy="212256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8128800" y="3133800"/>
            <a:ext cx="37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040160" y="31240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597440" y="31161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9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881480" y="27082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311600" y="27050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9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746400" y="26971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465240" y="31147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9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897160" y="31194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9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336640" y="31273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765320" y="31212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8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193800" y="27003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9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619240" y="26989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9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046120" y="27068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8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487400" y="27068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8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206240" y="31273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8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641040" y="31240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8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918960" y="26989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360240" y="26971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072960" y="31273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511000" y="31258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937880" y="31212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366200" y="31338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7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788560" y="26938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220480" y="26989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7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653840" y="27003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7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088640" y="27003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801360" y="31273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7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32800" y="26924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7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8168760" y="39704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878240" y="35496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600320" y="39751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033680" y="39704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316280" y="35370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746400" y="35449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468480" y="3976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900400" y="39718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331960" y="39704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773240" y="39718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209480" y="39783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173280" y="35514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617800" y="35434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050800" y="35449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488840" y="35514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641040" y="3976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923640" y="35434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360240" y="35514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069720" y="3976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514240" y="39718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945800" y="39639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374120" y="39654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10720" y="39654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793600" y="35449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218680" y="35434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658520" y="35449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083600" y="35514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26680" y="35434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685880" y="3541680"/>
            <a:ext cx="287280" cy="25416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511520" y="3541680"/>
            <a:ext cx="287640" cy="25416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343640" y="3535200"/>
            <a:ext cx="287640" cy="25416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06360" y="6305400"/>
            <a:ext cx="97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p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045200" y="3117960"/>
            <a:ext cx="287640" cy="253800"/>
          </a:xfrm>
          <a:prstGeom prst="rect">
            <a:avLst/>
          </a:prstGeom>
          <a:noFill/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090960" y="3114720"/>
            <a:ext cx="287280" cy="253800"/>
          </a:xfrm>
          <a:prstGeom prst="rect">
            <a:avLst/>
          </a:prstGeom>
          <a:noFill/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916600" y="3122640"/>
            <a:ext cx="287280" cy="253800"/>
          </a:xfrm>
          <a:prstGeom prst="rect">
            <a:avLst/>
          </a:prstGeom>
          <a:noFill/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497480" y="2693880"/>
            <a:ext cx="287280" cy="254160"/>
          </a:xfrm>
          <a:prstGeom prst="rect">
            <a:avLst/>
          </a:prstGeom>
          <a:noFill/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682640" y="2695680"/>
            <a:ext cx="287280" cy="253800"/>
          </a:xfrm>
          <a:prstGeom prst="rect">
            <a:avLst/>
          </a:prstGeom>
          <a:noFill/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4T14:42:48Z</dcterms:created>
  <dc:creator>TI</dc:creator>
  <dc:description/>
  <dc:language>en-US</dc:language>
  <cp:lastModifiedBy>TI User</cp:lastModifiedBy>
  <cp:lastPrinted>2003-05-12T17:08:09Z</cp:lastPrinted>
  <dcterms:modified xsi:type="dcterms:W3CDTF">2007-10-19T17:19:16Z</dcterms:modified>
  <cp:revision>235</cp:revision>
  <dc:subject/>
  <dc:title>OWS Business Review </dc:title>
</cp:coreProperties>
</file>